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612C-7C69-476C-A4F5-E0D385D68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B492-CBF5-402B-BA4C-37FEB5D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4B488-258D-4CA2-8FA0-C97B7D6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A6FA6-8546-4FA4-B9D2-4D63AC03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789748-29DF-4A5B-94E5-376F1C3B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8B10DD-08E8-4785-87EE-B12D104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44D03-25D4-4366-AAB4-88041DC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42E4E-29AE-4348-A20F-693A71FD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BFDDC-0CC1-400F-A67B-305F09C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EC15B-6D4D-43B4-8610-02FF934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FA6D8-E783-42E7-93DF-230EA420AF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4116-B9FD-4328-AE2F-634108D33D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8DD3-558E-4EE1-A122-7C088C1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69A4-6A2B-4114-BAE6-1C8ABEC4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8E3D-C8AB-4E9A-925D-EC2C0C3D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013D-D430-412B-A1D5-27778E7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78CD-B18A-4711-9E70-ECC853A5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A98B-6A79-4DE3-B566-56F19980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B385-D39F-40E3-A10D-A41B3E9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00F8A-0C1C-452F-8D94-5705E8FC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9029-1B00-4D59-AF6A-E6B086ED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FB5C-C831-4660-A929-D6DD487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C579-526C-4B6D-B771-24949C1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2238-6FE3-4CC8-8108-3AF7C6189B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75E1-0DA2-460C-BC14-D0A012DE1C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34633-6120-4CC7-9BBA-58C2F67DA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BF264-6A98-4DFC-B5FB-33EEB78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FD221-A1CF-4D6B-819C-DD05CE7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AC37A-A0C8-474D-AF41-0D284D41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96B89-034A-4CE1-861D-CAFB2C64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B1CF2-0E94-4C8A-B40F-87054C17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4D31E-9D26-402F-A171-7519152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8221E-5395-4244-B19E-D16D03A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23125-1C3B-413F-907D-DE61C6E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1E04-529E-46E2-B4C7-80F23E82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96469-B461-4510-992E-0AE50045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5B694-A4F6-4F13-A214-C652634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0D2CD6-BC87-444A-B9F3-5E91AD769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9B84B-5864-4DEB-8A7C-97EB31FF8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F86D2-AA88-4E39-AA37-47070DD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CA0A4-ACB6-46DD-82D7-6B5B871D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36982-496C-4D92-8587-2332039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E9635-4210-4771-90C5-B9F5AA0F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427D1-6D5F-48F7-917D-5E0BFA89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25A66-BC88-4164-B32A-16B87D2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41137-93C0-40F9-BFD9-F6A85946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EA60B-A8F9-46B0-82B4-9ABABDB0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02E65-8C17-4E7C-A0CD-760AEC6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7BCEE-76C6-4346-A275-FD192CE6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3214C-963B-4665-846D-1F3E5E6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5FAF6-E588-4DFC-8C99-5A4AAD174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578AB-3B66-430D-AE4C-775F51988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61698-62CA-497B-92EA-66F59FB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C965A-F98B-47EE-8A59-4E315E8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050A-45AF-466F-90DB-41C80700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9EB2F-1128-49FF-862B-10C68167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AEEE7-D617-48FC-9969-C968169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63804-CD7A-4280-B73C-B67E204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21DB1-371F-4392-BFB3-ED70D4A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D3AA-E0F6-483C-BBA7-D4C7432A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FBEA5-3DC7-46DF-8459-964B33B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8A7CE-FD1F-4C0E-8842-A6A3ECB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3150-6A9C-4E0D-986E-62D5062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59B0E-6A62-4A7B-BBBC-CBF2BC923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6BD87-95F4-4836-9068-61972CBB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2F250-25C0-4B5A-8B91-1BD403E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05742-6287-48F9-99EB-8132D6F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6236F-850F-4637-A98F-8328A76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9EB27-258B-4872-8109-FECFE43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E50F5-4876-4378-8A19-6305C4E4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4CE44-FFD4-4DCE-8158-EC3F7CD8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FE547-2696-46EA-A73D-82740EA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C098F-1FAB-4D17-A013-A9AAF49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DC4A7-96BE-4FEC-8163-F7CC91E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4CCA6-DB68-40E0-9117-5B03DF3E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F5758-F43E-4B26-A9C2-74095D26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52895-80D1-4B8B-99A1-5041555A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DD64-49BA-44A1-9D0C-E2DFB01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A9C2E-2DE7-49CB-9557-C1E63C8B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397C-C741-43CB-96A8-236C450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F42A1-E0FB-423C-B8F3-C85C8FE4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16A8B-478B-4FB0-A001-1707ED5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C5F1-3E8B-4FFD-AA6A-492DA07B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2A02-E754-43A3-B08F-2A42EBD8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AB161-5FD0-493F-ABCD-C9F2B1D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E7E32-4B09-4FBC-812E-340DA01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60471-FB0D-4A89-8F8C-5215113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1C39F-BB54-4008-BC1D-5EDCE05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111B2-4CEA-433F-8294-2F5B89C6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EADBA-6A05-41C8-B9FB-C1BDDAD5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C6B34-A3B8-4853-8C62-E7A64BB1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4CCE8-4818-4E98-B36F-9323C9FB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7B2CD-BBBE-4CC6-89E3-2CF8339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83631-47F9-4998-8F99-FF4F5F1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0E640-1A6A-408F-805D-31C3871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D0D6C-033D-4E7B-8E46-F751363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B8E6F-664D-45DF-BA1F-BD714A8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BECBD-0F9E-4F35-B3CF-FB294FD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83F5-75B5-4A92-9DE3-AE57D45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6075D-8EE7-4231-B411-DE66749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907A-9F76-4637-B2CE-203163A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ACC7E-43B7-4E1E-85B9-827004B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1CE61-1490-4F23-85CC-284B8A80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13EB8-D0F3-41AE-AEEF-9A97EF03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1BB2A-2B20-4C96-9A9B-F84E4C1F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A5879-016D-4682-9285-989A79A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5336F-1050-448C-A0CE-BC451DF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FA34B-9E32-48BD-A64E-48B6453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28817-A931-493D-9697-193E922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5004C-2839-42A8-84FF-A5474D2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0588C-8E12-45FD-A8F4-77E1629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42BF-A180-4CC6-8CBB-ECEE5F0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E0D2-A973-418D-ADF6-25585A5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7502B-DD09-4B06-98BE-5200F05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1ADA7-111D-4AD2-B66F-B37B512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43DA4-A853-4057-805A-3DADF07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AB29C-F332-4535-89A0-72AC14FD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6979D-B168-4169-975E-22F87987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343D5-3DDD-452B-ACD6-C9B7B112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B0568-E819-444C-84AD-65663B8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37F49-E3E6-48DF-9E5C-E86094B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7D2F7-8DD6-4361-AE65-EA681E8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9A412-D2D1-4934-8BA9-9C6AEFE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49FB-58B6-41B8-AE16-28AE09B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81C22-0F7E-4AA1-9666-1C941755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EFC8A-E7CA-4809-AD91-218BFAC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DE128-F965-4CFA-965C-A3ED2B7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15E25-4878-4799-841D-5AA8143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175A9-8281-435C-8253-2583F89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824B8-14AB-43B1-9EEF-EC0D6DB1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8613A-EFAC-4E40-A851-9384184A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D09DC-BB2F-4A5D-9F52-DEA4969C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27A13-1010-4668-BA4A-7884678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9264C-BFAD-4AAE-A6B6-89761366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DF8D-6B99-4DB9-B7A7-D33DA5F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AF7BD-DE8B-48CB-8784-DB4D15AC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624A0-B9B8-4671-99BE-4D3E654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BB0B9-37E4-4361-A276-32FF68B9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89A3A-44D3-40DC-9EA2-26BD6C2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9F0E1-0C3C-4A2F-897C-4E9EE58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D2683-E8FF-45F0-89C1-2C83A89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3554D-E110-4794-B8C8-89C719F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58009-2CBC-49D4-8370-0B56C987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5FD4B-D5D6-4973-8B3D-423B78AE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822CF-0107-40AF-AAE0-7AF2584E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D691-A9F1-4475-9DFE-1BE06FEC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6DB7E-8121-4283-A1BF-B44C09E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069D1-78B5-4DD5-A236-1E3E0E1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9C3EB-2626-49AA-82CA-7A600A1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56DB4-B4A3-4A71-9D91-F177243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9816C-4B30-413A-B2E5-0EF817F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2F872-6239-4777-8C8B-A158FA4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DC4B2-7DED-4F07-AE65-BC78DA2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6F8B7-6AB2-44A4-85B7-6F1780E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78FB5-7084-4E2F-B776-E0A3AA28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B6D79-D873-46CE-9945-170CF67E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347A0-6112-479C-BECD-EAD764D7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095F0-04EB-445D-88E9-C643309E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5E93E-4C4A-4C65-81B0-3F838477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3BC9F-850A-4614-88AB-F1BEC34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D0154-132F-4433-ABB3-D7E96A2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F1337-D9D2-433A-B14E-52B1DC4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6F4C5-CE7D-4F96-A847-12D3849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1C724-4240-4B71-856C-B2AF34DF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34945-9D6C-4F70-817E-E2B3FBF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B02A2-31F3-46D8-8F6B-034D15C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63BA1-192D-4FAE-B681-AD9ACC1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71CF3-F3FF-4D53-BD15-445C543D5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4453D-2517-402D-A78C-E2B5F8D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DE865-E05E-4C4C-9ABE-DF49600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76AAA-93B6-4FE2-9B3F-AC36E6F7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01E97-D4B8-4AD2-A803-92574802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91E66-5E1E-49CB-97DE-96E17B0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53596-2F4C-4C28-A461-2BDEA14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5240E-11DB-47ED-84E5-339F1B0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7C593-8EAC-4CB9-89CD-3865024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04964-E561-461E-9249-97AC471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A30AA-26FE-4E29-94DA-AB89C1A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34C82-B58C-4139-85DA-70E5BF6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4A387-D961-4BF0-A40A-1F585388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16751-CF0A-4E13-A37A-02A3676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FF323-F802-4694-92FF-72F57CA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18AD0-4F52-4B9C-A188-DA108A4D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8A16F-7757-4CC2-A5DF-36C56969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DD4B3-C781-4F9F-BFB5-E880908B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3F5E8-EBF0-44E4-AF79-1415153B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A647B-41E0-4629-B395-9F11178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36251-543F-4336-9463-8AF109F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0E8D1-251D-4272-AA8F-717E2DC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109EF-4678-417E-A942-9B442FEC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9A25B-A435-4011-9544-18ABB8A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79595-1E7C-4730-BD1D-EA0E293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EB63A-8987-48D7-964A-2C57F9D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3EE00-927B-4571-B210-5093312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E4392-7EF6-4233-8D1C-DCD495BC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5D6821-D3DA-438D-815F-B7C52B18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05466-CD5B-4717-BB08-C6DF594A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ECBEA-61FF-4E12-B382-C18F2D12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D7692-B19A-45F9-98B4-CCC47C9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DB0B2-F342-4491-80C0-CC44278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E6A87-12BE-45C1-B06B-C758C053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72B9C-9E9A-4802-B3CE-D60B443D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65DE6-6B6B-414A-80EF-A9E420E2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05D10-580C-49FF-9A87-E20FA57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174BE-05A1-422B-A2C8-4F52309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ACA83-FEEE-4FE0-9E80-1404E61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13555-0EFA-43D2-B018-AE309CF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D653B-0BED-4FEE-B9C0-1F895FE0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3C2CE-292B-4D1A-A9A4-973F8BAD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3783D-2830-4ABD-8E6E-12E564A6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DCDD5-3697-4E7A-9458-F895ED4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43F2-438A-46F0-A038-5E29F15D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5D3C7-8F79-4308-9A0A-74F05F0F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B6CA0-20D4-4979-83AC-657524C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202DA-AB08-4AD1-819C-0975BAF0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42FA5-2DA0-479E-BEA1-84CACEF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5F5AA-543A-4EC1-97E9-22E8CB7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52E37-F203-4AA2-ADA0-DFF9502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F9E43-BBE9-4917-8FC2-EE63B2AD6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8453-D082-4739-B2BB-7DD07CCA7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29C1-2BB6-48E5-8A62-14700FEB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CBD6-7BDD-4FB7-BA18-0BD0971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67AE-4E3A-4199-A3EE-06EECED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7C85-CB42-43C4-8991-266FEDC4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D6EB-79FB-4ED1-ACDF-BAE8E11A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D4B5-0EE0-4ADD-AE49-965E629D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AB6D-1C1E-4B9D-9366-23FED01D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4500-022F-43AA-AEB3-F50B9B84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0658-72D6-4FCC-9A17-D6C3B81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1E37-A55B-4555-8E7F-362ECE4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6438-F97D-4883-8978-3B43942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4B78-FC26-45C7-824C-AB1146D49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E7DA7-B3DA-44F1-947A-BC9EAE146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46D5-F272-4E23-9843-2985DBC7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034FF-7AB7-4957-B1EA-A4D848FA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02AFE-B049-4BB0-AE7B-4D4FCBB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5FB6B-BE84-4369-BDFC-4175BCA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CF012-15F0-4AC4-9E86-6A967347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A111C-2E71-4FEA-B009-4DB73F8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6BD8F-F582-4038-99A2-23107310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69092-E63B-4C89-BC18-0BBF617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4251C-F24E-4760-8B7E-7D23205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098EA-1A0C-48DB-9C97-97BE6CB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39DFF-6B69-4BC0-8BDA-127391A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F7CE-409D-438F-8113-574E155C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20996-EB41-40CB-ABBC-1DF82852D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1F53E-A8AE-4523-B5DC-50F859F6F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D2EF6-5EB3-4794-8286-C2DD75E4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DD0E1-71BC-4D5E-AD35-1289EFA1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CB247-B2A0-4604-BDD6-6E46548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C58C5-5939-40AA-9547-7533CBE1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CC48E-D6BF-43B0-82EF-144A1479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3E2C8-97EA-4687-972C-633B2A8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55E0A5-7482-4386-A79A-84D688F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C8FF3-F7A2-4AEE-8E35-AEA47283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E2ED-E937-4CDF-81E8-D71F755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42D0D-9D52-467E-854C-06CCF74D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D9CDF-8004-49C8-BD9D-8CD4589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C879FE-113A-42F9-84DC-E5D72F6C0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13BC-166F-4792-B6C8-63B94854F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E9F8-378F-4E9B-A589-2C82F3B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736C1-D33B-4DEB-92F3-A1E093E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5B77-12A2-47CF-AB9A-28E4471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D58C-7DEF-4CDB-A0BC-56BF676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6843-C51F-4711-B4E4-39D4B9D2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0687-0D67-4CC2-9C49-72F561E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63C1-D194-435C-B685-3560964B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452F-A4C1-40AC-BDEC-DBC6DCE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5520-3586-4A94-8A51-2500B4B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483B-3054-46F6-8EA5-F60210C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3EF30-A6A1-49B0-B82E-7AF872A7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84A3A-B69E-4FBB-81A2-F67648B33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898A2-2DEE-40F8-8BFF-E6DF24B37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9D37C-0BA2-4951-8638-3FC266C8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E7138-3036-45BD-839D-50AD4A6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CD24D-528C-4079-A6EC-4B4F8C4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B10CE-B9A1-483D-9FE5-E138734F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D090-B7F2-46FA-B40D-DA4EDAB6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878F8-01CB-4386-BFF8-85576F84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B5A7B-CCFF-41F2-90D5-258EC34A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AB667-54E2-4D41-B1B8-1ED6DC8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A824E-6A9D-4B07-8E60-2A739D5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2B846-7D75-43F9-94E6-3D229D9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CC04C-5E2D-45E4-8C48-9A09220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3DBD6-AC4F-4D9E-9B06-2412B5156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A9D8F2-282B-45E3-871B-AA122BC70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C3A5EC-614D-44C8-B835-5651967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CB4C3F-7EF7-462F-92DC-635517E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05C-A49F-44B1-BD87-213C88F469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FAF4-5B94-44FE-8221-3E2B86F2C0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12A5-8E23-42A3-94D7-6EE4C96248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8480-5B99-4AA0-BE69-E54BE76BDF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32A-3872-42C4-85D1-031504C9CA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835C-EB38-43F8-BAB5-4518675C16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4246-1EE2-43B8-B63A-D61D17F317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C45B-F50D-49B8-9277-997528C407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F312-DCD7-442E-AD90-F2EF6D5848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A43-2E42-45D6-964B-1F1350BFF0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1ED-F7E0-43F4-A947-A24244275A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6AD-A89B-4DDC-AE3B-A85DCFE433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C59-845C-4D08-8E03-7837D96037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723-874D-4EBC-8234-37D4F71EBF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BCA5-684E-49A3-BFBC-333261304E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4A1-418B-44E8-9854-0660D07797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A4C-A23B-4C58-86ED-2B15575877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941-A4A3-413B-A477-792BBF694D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260-EF57-4A63-9CBC-90C80B08A0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329-5F84-4506-9639-8BC4C43127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C93-BBE9-495A-85CE-5264C92DAA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2BE1-95A3-4A9E-B9FE-13ED92D7ED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FDC-CD15-4611-91CC-E7EBD4DB22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5A01-0375-4EBA-A301-65C2DD1B91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14956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单 价、数 量 和 总 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51"/>
          <p:cNvSpPr/>
          <p:nvPr/>
        </p:nvSpPr>
        <p:spPr>
          <a:xfrm>
            <a:off x="500040" y="1000080"/>
            <a:ext cx="386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解答下面的问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30"/>
          <p:cNvGrpSpPr/>
          <p:nvPr/>
        </p:nvGrpSpPr>
        <p:grpSpPr>
          <a:xfrm>
            <a:off x="4747680" y="1571760"/>
            <a:ext cx="3846960" cy="2457360"/>
            <a:chOff x="4747680" y="1571760"/>
            <a:chExt cx="3846960" cy="2457360"/>
          </a:xfrm>
        </p:grpSpPr>
        <p:sp>
          <p:nvSpPr>
            <p:cNvPr id="1000" name="Rectangle 9"/>
            <p:cNvSpPr/>
            <p:nvPr/>
          </p:nvSpPr>
          <p:spPr>
            <a:xfrm>
              <a:off x="5462280" y="3472200"/>
              <a:ext cx="31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1" name="组合 29"/>
            <p:cNvGrpSpPr/>
            <p:nvPr/>
          </p:nvGrpSpPr>
          <p:grpSpPr>
            <a:xfrm>
              <a:off x="4747680" y="1571760"/>
              <a:ext cx="3846600" cy="2457360"/>
              <a:chOff x="4747680" y="1571760"/>
              <a:chExt cx="3846600" cy="2457360"/>
            </a:xfrm>
          </p:grpSpPr>
          <p:grpSp>
            <p:nvGrpSpPr>
              <p:cNvPr id="1002" name="Group 25"/>
              <p:cNvGrpSpPr/>
              <p:nvPr/>
            </p:nvGrpSpPr>
            <p:grpSpPr>
              <a:xfrm>
                <a:off x="4747680" y="1571760"/>
                <a:ext cx="3846600" cy="2457360"/>
                <a:chOff x="4747680" y="1571760"/>
                <a:chExt cx="3846600" cy="245736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4755600" y="1571760"/>
                  <a:ext cx="1440" cy="2457360"/>
                  <a:chOff x="4755600" y="1571760"/>
                  <a:chExt cx="1440" cy="2457360"/>
                </a:xfrm>
              </p:grpSpPr>
              <p:sp>
                <p:nvSpPr>
                  <p:cNvPr id="1004" name="直接连接符 9"/>
                  <p:cNvSpPr/>
                  <p:nvPr/>
                </p:nvSpPr>
                <p:spPr>
                  <a:xfrm flipH="1">
                    <a:off x="4755600" y="1571760"/>
                    <a:ext cx="1440" cy="24573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 txBox="1"/>
                  <p:nvPr/>
                </p:nvSpPr>
                <p:spPr>
                  <a:xfrm rot="5400000">
                    <a:off x="3527640" y="2799720"/>
                    <a:ext cx="245736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6" name="Rectangle 10"/>
                <p:cNvSpPr/>
                <p:nvPr/>
              </p:nvSpPr>
              <p:spPr>
                <a:xfrm>
                  <a:off x="4747680" y="1590840"/>
                  <a:ext cx="861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（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51"/>
                <p:cNvSpPr/>
                <p:nvPr/>
              </p:nvSpPr>
              <p:spPr>
                <a:xfrm>
                  <a:off x="5472360" y="2506680"/>
                  <a:ext cx="31219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鱼每千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元，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千克要多少钱？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08" name="图片 23" descr="23.jpg"/>
              <p:cNvPicPr/>
              <p:nvPr/>
            </p:nvPicPr>
            <p:blipFill>
              <a:blip r:embed="rId1"/>
              <a:stretch/>
            </p:blipFill>
            <p:spPr>
              <a:xfrm>
                <a:off x="5929200" y="1571760"/>
                <a:ext cx="1365120" cy="85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28"/>
          <p:cNvGrpSpPr/>
          <p:nvPr/>
        </p:nvGrpSpPr>
        <p:grpSpPr>
          <a:xfrm>
            <a:off x="888840" y="1500120"/>
            <a:ext cx="4727880" cy="2439360"/>
            <a:chOff x="888840" y="1500120"/>
            <a:chExt cx="4727880" cy="2439360"/>
          </a:xfrm>
        </p:grpSpPr>
        <p:grpSp>
          <p:nvGrpSpPr>
            <p:cNvPr id="1010" name="组合 27"/>
            <p:cNvGrpSpPr/>
            <p:nvPr/>
          </p:nvGrpSpPr>
          <p:grpSpPr>
            <a:xfrm>
              <a:off x="888840" y="1585800"/>
              <a:ext cx="4727880" cy="2353680"/>
              <a:chOff x="888840" y="1585800"/>
              <a:chExt cx="4727880" cy="2353680"/>
            </a:xfrm>
          </p:grpSpPr>
          <p:sp>
            <p:nvSpPr>
              <p:cNvPr id="1011" name="Rectangle 9"/>
              <p:cNvSpPr/>
              <p:nvPr/>
            </p:nvSpPr>
            <p:spPr>
              <a:xfrm>
                <a:off x="1619280" y="3479760"/>
                <a:ext cx="399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×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＝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元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Group 30"/>
              <p:cNvGrpSpPr/>
              <p:nvPr/>
            </p:nvGrpSpPr>
            <p:grpSpPr>
              <a:xfrm>
                <a:off x="888840" y="1585800"/>
                <a:ext cx="3740040" cy="1736640"/>
                <a:chOff x="888840" y="1585800"/>
                <a:chExt cx="3740040" cy="1736640"/>
              </a:xfrm>
            </p:grpSpPr>
            <p:sp>
              <p:nvSpPr>
                <p:cNvPr id="1013" name="Rectangle 10"/>
                <p:cNvSpPr/>
                <p:nvPr/>
              </p:nvSpPr>
              <p:spPr>
                <a:xfrm>
                  <a:off x="888840" y="1585800"/>
                  <a:ext cx="861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（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Rectangle 51"/>
                <p:cNvSpPr/>
                <p:nvPr/>
              </p:nvSpPr>
              <p:spPr>
                <a:xfrm>
                  <a:off x="1620720" y="2496960"/>
                  <a:ext cx="3008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篮球每个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元，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个要多少钱？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5" name="图片 24" descr="22.jpg"/>
            <p:cNvPicPr/>
            <p:nvPr/>
          </p:nvPicPr>
          <p:blipFill>
            <a:blip r:embed="rId2"/>
            <a:stretch/>
          </p:blipFill>
          <p:spPr>
            <a:xfrm>
              <a:off x="2352960" y="1500120"/>
              <a:ext cx="101196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组合 2"/>
          <p:cNvGrpSpPr/>
          <p:nvPr/>
        </p:nvGrpSpPr>
        <p:grpSpPr>
          <a:xfrm>
            <a:off x="0" y="101520"/>
            <a:ext cx="5006880" cy="525600"/>
            <a:chOff x="0" y="101520"/>
            <a:chExt cx="5006880" cy="525600"/>
          </a:xfrm>
        </p:grpSpPr>
        <p:pic>
          <p:nvPicPr>
            <p:cNvPr id="101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248040" y="101520"/>
              <a:ext cx="4758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8" name="组合 4"/>
            <p:cNvGrpSpPr/>
            <p:nvPr/>
          </p:nvGrpSpPr>
          <p:grpSpPr>
            <a:xfrm>
              <a:off x="0" y="196560"/>
              <a:ext cx="669240" cy="273600"/>
              <a:chOff x="0" y="196560"/>
              <a:chExt cx="669240" cy="273600"/>
            </a:xfrm>
          </p:grpSpPr>
          <p:sp>
            <p:nvSpPr>
              <p:cNvPr id="1019" name="椭圆 11"/>
              <p:cNvSpPr/>
              <p:nvPr/>
            </p:nvSpPr>
            <p:spPr>
              <a:xfrm rot="16200000">
                <a:off x="278280" y="349920"/>
                <a:ext cx="10548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30560" y="284400"/>
                <a:ext cx="238680" cy="7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椭圆 29"/>
              <p:cNvSpPr/>
              <p:nvPr/>
            </p:nvSpPr>
            <p:spPr>
              <a:xfrm rot="16200000">
                <a:off x="278280" y="214560"/>
                <a:ext cx="10548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430560" y="206640"/>
                <a:ext cx="23868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95560"/>
                <a:ext cx="59112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6120"/>
                <a:ext cx="59112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16000"/>
                <a:ext cx="59112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591120" cy="69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7" name="矩形 20"/>
          <p:cNvSpPr/>
          <p:nvPr/>
        </p:nvSpPr>
        <p:spPr>
          <a:xfrm>
            <a:off x="1422360" y="842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自主探究，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八边形 7"/>
          <p:cNvSpPr/>
          <p:nvPr/>
        </p:nvSpPr>
        <p:spPr>
          <a:xfrm>
            <a:off x="600120" y="923760"/>
            <a:ext cx="5238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1"/>
          <p:cNvGrpSpPr/>
          <p:nvPr/>
        </p:nvGrpSpPr>
        <p:grpSpPr>
          <a:xfrm>
            <a:off x="420840" y="4024440"/>
            <a:ext cx="1883880" cy="459720"/>
            <a:chOff x="420840" y="4024440"/>
            <a:chExt cx="1883880" cy="459720"/>
          </a:xfrm>
        </p:grpSpPr>
        <p:sp>
          <p:nvSpPr>
            <p:cNvPr id="1030" name="TextBox 3"/>
            <p:cNvSpPr/>
            <p:nvPr/>
          </p:nvSpPr>
          <p:spPr>
            <a:xfrm>
              <a:off x="525240" y="40244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缺角矩形 37"/>
            <p:cNvSpPr/>
            <p:nvPr/>
          </p:nvSpPr>
          <p:spPr>
            <a:xfrm>
              <a:off x="420840" y="41450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3"/>
          <p:cNvSpPr/>
          <p:nvPr/>
        </p:nvSpPr>
        <p:spPr>
          <a:xfrm>
            <a:off x="285840" y="4510080"/>
            <a:ext cx="87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件商品的价钱叫做单件。如每个篮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篮球的单价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；每千克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鱼的单价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。买了多少，叫做数量。如题中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篮球的数量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鱼的数量。一共用的钱数，叫做总价。这两个问题都是已知单价和数量，求总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38"/>
          <p:cNvGrpSpPr/>
          <p:nvPr/>
        </p:nvGrpSpPr>
        <p:grpSpPr>
          <a:xfrm>
            <a:off x="331920" y="860400"/>
            <a:ext cx="2147400" cy="459720"/>
            <a:chOff x="331920" y="860400"/>
            <a:chExt cx="2147400" cy="459720"/>
          </a:xfrm>
        </p:grpSpPr>
        <p:sp>
          <p:nvSpPr>
            <p:cNvPr id="1034" name="TextBox 3"/>
            <p:cNvSpPr/>
            <p:nvPr/>
          </p:nvSpPr>
          <p:spPr>
            <a:xfrm>
              <a:off x="436320" y="8604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缺角矩形 40"/>
            <p:cNvSpPr/>
            <p:nvPr/>
          </p:nvSpPr>
          <p:spPr>
            <a:xfrm>
              <a:off x="331920" y="9810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文本框 1"/>
          <p:cNvSpPr/>
          <p:nvPr/>
        </p:nvSpPr>
        <p:spPr>
          <a:xfrm>
            <a:off x="669960" y="1330200"/>
            <a:ext cx="815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一个问题是已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篮球的价钱，求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篮球要花的钱，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，用乘法计算；第二个问题是已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鱼的价钱，求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鱼要花的钱，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，也是乘法计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此可知：单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41"/>
          <p:cNvGrpSpPr/>
          <p:nvPr/>
        </p:nvGrpSpPr>
        <p:grpSpPr>
          <a:xfrm>
            <a:off x="331920" y="3503520"/>
            <a:ext cx="2147400" cy="459720"/>
            <a:chOff x="331920" y="3503520"/>
            <a:chExt cx="2147400" cy="459720"/>
          </a:xfrm>
        </p:grpSpPr>
        <p:sp>
          <p:nvSpPr>
            <p:cNvPr id="1038" name="TextBox 3"/>
            <p:cNvSpPr/>
            <p:nvPr/>
          </p:nvSpPr>
          <p:spPr>
            <a:xfrm>
              <a:off x="436320" y="350352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缺角矩形 43"/>
            <p:cNvSpPr/>
            <p:nvPr/>
          </p:nvSpPr>
          <p:spPr>
            <a:xfrm>
              <a:off x="331920" y="362412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文本框 2"/>
          <p:cNvSpPr/>
          <p:nvPr/>
        </p:nvSpPr>
        <p:spPr>
          <a:xfrm>
            <a:off x="631800" y="3949560"/>
            <a:ext cx="788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=2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=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51"/>
          <p:cNvSpPr/>
          <p:nvPr/>
        </p:nvSpPr>
        <p:spPr>
          <a:xfrm>
            <a:off x="428760" y="855720"/>
            <a:ext cx="83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解答，只说出下面各题已知的是什么，要求的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642960" y="140976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每套校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套要用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28"/>
          <p:cNvGrpSpPr/>
          <p:nvPr/>
        </p:nvGrpSpPr>
        <p:grpSpPr>
          <a:xfrm>
            <a:off x="642960" y="3646440"/>
            <a:ext cx="8101080" cy="1328760"/>
            <a:chOff x="642960" y="3646440"/>
            <a:chExt cx="8101080" cy="1328760"/>
          </a:xfrm>
        </p:grpSpPr>
        <p:sp>
          <p:nvSpPr>
            <p:cNvPr id="1044" name="Rectangle 51"/>
            <p:cNvSpPr/>
            <p:nvPr/>
          </p:nvSpPr>
          <p:spPr>
            <a:xfrm>
              <a:off x="642960" y="36464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学校买了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台同样的复读机，花了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42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台复读机多少元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5" name="Picture 22" descr="fuduji"/>
            <p:cNvPicPr/>
            <p:nvPr/>
          </p:nvPicPr>
          <p:blipFill>
            <a:blip r:embed="rId1"/>
            <a:stretch/>
          </p:blipFill>
          <p:spPr>
            <a:xfrm>
              <a:off x="7215480" y="3713040"/>
              <a:ext cx="1127160" cy="12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6" name="组合 29"/>
          <p:cNvGrpSpPr/>
          <p:nvPr/>
        </p:nvGrpSpPr>
        <p:grpSpPr>
          <a:xfrm>
            <a:off x="757080" y="4214880"/>
            <a:ext cx="6472440" cy="1851120"/>
            <a:chOff x="757080" y="4214880"/>
            <a:chExt cx="6472440" cy="1851120"/>
          </a:xfrm>
        </p:grpSpPr>
        <p:pic>
          <p:nvPicPr>
            <p:cNvPr id="1047" name="图片 15" descr="20087116614671_2.jpg"/>
            <p:cNvPicPr/>
            <p:nvPr/>
          </p:nvPicPr>
          <p:blipFill>
            <a:blip r:embed="rId2"/>
            <a:stretch/>
          </p:blipFill>
          <p:spPr>
            <a:xfrm>
              <a:off x="5224680" y="4214880"/>
              <a:ext cx="200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27"/>
            <p:cNvSpPr/>
            <p:nvPr/>
          </p:nvSpPr>
          <p:spPr>
            <a:xfrm>
              <a:off x="757080" y="4786200"/>
              <a:ext cx="4352040" cy="598680"/>
            </a:xfrm>
            <a:prstGeom prst="wedgeRoundRectCallout">
              <a:avLst>
                <a:gd name="adj1" fmla="val 58851"/>
                <a:gd name="adj2" fmla="val -513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00000"/>
                  </a:solidFill>
                  <a:latin typeface="方正楷体简体"/>
                  <a:ea typeface="方正楷体简体"/>
                </a:rPr>
                <a:t>已知数量和总价，求单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组合 27"/>
          <p:cNvGrpSpPr/>
          <p:nvPr/>
        </p:nvGrpSpPr>
        <p:grpSpPr>
          <a:xfrm>
            <a:off x="1714680" y="1855800"/>
            <a:ext cx="5786280" cy="1717560"/>
            <a:chOff x="1714680" y="1855800"/>
            <a:chExt cx="5786280" cy="1717560"/>
          </a:xfrm>
        </p:grpSpPr>
        <p:sp>
          <p:nvSpPr>
            <p:cNvPr id="1050" name="AutoShape 27"/>
            <p:cNvSpPr/>
            <p:nvPr/>
          </p:nvSpPr>
          <p:spPr>
            <a:xfrm>
              <a:off x="3071880" y="2498760"/>
              <a:ext cx="4429080" cy="642600"/>
            </a:xfrm>
            <a:prstGeom prst="wedgeRoundRectCallout">
              <a:avLst>
                <a:gd name="adj1" fmla="val -58680"/>
                <a:gd name="adj2" fmla="val 3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00000"/>
                  </a:solidFill>
                  <a:latin typeface="方正楷体简体"/>
                  <a:ea typeface="方正楷体简体"/>
                </a:rPr>
                <a:t>已知单价和数量，求总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1" name="图片 16" descr="11.gif"/>
            <p:cNvPicPr/>
            <p:nvPr/>
          </p:nvPicPr>
          <p:blipFill>
            <a:blip r:embed="rId3"/>
            <a:stretch/>
          </p:blipFill>
          <p:spPr>
            <a:xfrm>
              <a:off x="1714680" y="1855800"/>
              <a:ext cx="928440" cy="17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3" name="圆角矩形 5" descr=""/>
            <p:cNvPicPr/>
            <p:nvPr/>
          </p:nvPicPr>
          <p:blipFill>
            <a:blip r:embed="rId4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3" name="Rectangle 64"/>
          <p:cNvSpPr/>
          <p:nvPr/>
        </p:nvSpPr>
        <p:spPr>
          <a:xfrm>
            <a:off x="365040" y="219240"/>
            <a:ext cx="2975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文本框 99"/>
          <p:cNvSpPr/>
          <p:nvPr/>
        </p:nvSpPr>
        <p:spPr>
          <a:xfrm>
            <a:off x="293760" y="743040"/>
            <a:ext cx="8717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胖想给希望小学的小伙伴们买运动装，上衣每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，裤子每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，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套一共需要多少钱？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×2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×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＋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×2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瓶雪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钱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可装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瓶雪碧，超市运来一车雪碧刚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雪碧要付多少钱？（     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车雪碧要付多少钱？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×12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×100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×100  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×12×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"/>
          <p:cNvSpPr/>
          <p:nvPr/>
        </p:nvSpPr>
        <p:spPr>
          <a:xfrm>
            <a:off x="4017960" y="179388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2"/>
          <p:cNvSpPr/>
          <p:nvPr/>
        </p:nvSpPr>
        <p:spPr>
          <a:xfrm>
            <a:off x="3375000" y="314784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3"/>
          <p:cNvSpPr/>
          <p:nvPr/>
        </p:nvSpPr>
        <p:spPr>
          <a:xfrm>
            <a:off x="3378240" y="36273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32"/>
          <p:cNvSpPr/>
          <p:nvPr/>
        </p:nvSpPr>
        <p:spPr>
          <a:xfrm>
            <a:off x="425520" y="1924200"/>
            <a:ext cx="84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每件商品的价钱，叫做单价；买了多少，叫做数量；一共用的钱数，叫做总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单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总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"/>
          <p:cNvSpPr/>
          <p:nvPr/>
        </p:nvSpPr>
        <p:spPr>
          <a:xfrm>
            <a:off x="395280" y="636480"/>
            <a:ext cx="841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每支钢笔售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一盒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。一盒钢笔多少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是已知钢笔的（        ）和（        ），求（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盒钢笔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，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买了一盒。每支钢笔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？这是已知钢笔的（        ）和（        ），求（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校食堂买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大米，每千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一共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组合 10"/>
          <p:cNvGrpSpPr/>
          <p:nvPr/>
        </p:nvGrpSpPr>
        <p:grpSpPr>
          <a:xfrm>
            <a:off x="3699000" y="1893960"/>
            <a:ext cx="4348080" cy="465480"/>
            <a:chOff x="3699000" y="1893960"/>
            <a:chExt cx="4348080" cy="465480"/>
          </a:xfrm>
        </p:grpSpPr>
        <p:sp>
          <p:nvSpPr>
            <p:cNvPr id="1095" name="文本框 3"/>
            <p:cNvSpPr/>
            <p:nvPr/>
          </p:nvSpPr>
          <p:spPr>
            <a:xfrm>
              <a:off x="3699000" y="1893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单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文本框 4"/>
            <p:cNvSpPr/>
            <p:nvPr/>
          </p:nvSpPr>
          <p:spPr>
            <a:xfrm>
              <a:off x="5302800" y="1893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数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6"/>
            <p:cNvSpPr/>
            <p:nvPr/>
          </p:nvSpPr>
          <p:spPr>
            <a:xfrm>
              <a:off x="7174440" y="189972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总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组合 12"/>
          <p:cNvGrpSpPr/>
          <p:nvPr/>
        </p:nvGrpSpPr>
        <p:grpSpPr>
          <a:xfrm>
            <a:off x="3971880" y="2978280"/>
            <a:ext cx="4363560" cy="473400"/>
            <a:chOff x="3971880" y="2978280"/>
            <a:chExt cx="4363560" cy="473400"/>
          </a:xfrm>
        </p:grpSpPr>
        <p:sp>
          <p:nvSpPr>
            <p:cNvPr id="1099" name="文本框 7"/>
            <p:cNvSpPr/>
            <p:nvPr/>
          </p:nvSpPr>
          <p:spPr>
            <a:xfrm>
              <a:off x="3971880" y="2991960"/>
              <a:ext cx="87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数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8"/>
            <p:cNvSpPr/>
            <p:nvPr/>
          </p:nvSpPr>
          <p:spPr>
            <a:xfrm>
              <a:off x="5611320" y="2989440"/>
              <a:ext cx="87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总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文本框 9"/>
            <p:cNvSpPr/>
            <p:nvPr/>
          </p:nvSpPr>
          <p:spPr>
            <a:xfrm>
              <a:off x="7463160" y="2978280"/>
              <a:ext cx="87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单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文本框 14"/>
          <p:cNvSpPr/>
          <p:nvPr/>
        </p:nvSpPr>
        <p:spPr>
          <a:xfrm>
            <a:off x="952560" y="4048200"/>
            <a:ext cx="73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2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一共花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1:22Z</dcterms:created>
  <dc:creator/>
  <dc:description/>
  <dc:language>en-US</dc:language>
  <cp:lastModifiedBy>万润仪器贸易公司</cp:lastModifiedBy>
  <dcterms:modified xsi:type="dcterms:W3CDTF">2020-08-21T08:55:39Z</dcterms:modified>
  <cp:revision>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